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7315200" cy="9601200"/>
  <p:custShowLst>
    <p:custShow name="20 min overview" id="0">
      <p:sldLst>
        <p:sld r:id="rId6"/>
      </p:sldLst>
    </p:custShow>
    <p:custShow name="Sales Presentation" id="1">
      <p:sldLst>
        <p:sld r:id="rId6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266840" y="727200"/>
            <a:ext cx="4781520" cy="358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2560" cy="43182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ldImg"/>
          </p:nvPr>
        </p:nvSpPr>
        <p:spPr>
          <a:xfrm>
            <a:off x="-360" y="-4707000"/>
            <a:ext cx="360" cy="1087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Stone Serif"/>
              </a:rPr>
              <a:t>Click to move the slide</a:t>
            </a: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1266840" y="727200"/>
            <a:ext cx="4781520" cy="358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400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1257480" y="72864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400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66840" y="727200"/>
            <a:ext cx="4781520" cy="358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400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1266840" y="727200"/>
            <a:ext cx="4781520" cy="358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400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1266840" y="727200"/>
            <a:ext cx="4781520" cy="358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400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1266840" y="727200"/>
            <a:ext cx="4781520" cy="358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400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19320" y="0"/>
            <a:ext cx="7673760" cy="112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219320" y="1523880"/>
            <a:ext cx="7673760" cy="227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8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1219320" y="4020840"/>
            <a:ext cx="7673760" cy="227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8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19320" y="0"/>
            <a:ext cx="7673760" cy="112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19320" y="1523880"/>
            <a:ext cx="3744720" cy="227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8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1600" y="1523880"/>
            <a:ext cx="3744720" cy="227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8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1219320" y="4020840"/>
            <a:ext cx="3744720" cy="227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8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5151600" y="4020840"/>
            <a:ext cx="3744720" cy="227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8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19320" y="0"/>
            <a:ext cx="7673760" cy="112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19320" y="1523880"/>
            <a:ext cx="2470680" cy="227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8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813840" y="1523880"/>
            <a:ext cx="2470680" cy="227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8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408360" y="1523880"/>
            <a:ext cx="2470680" cy="227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8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1219320" y="4020840"/>
            <a:ext cx="2470680" cy="227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8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813840" y="4020840"/>
            <a:ext cx="2470680" cy="227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8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6408360" y="4020840"/>
            <a:ext cx="2470680" cy="227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8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19320" y="0"/>
            <a:ext cx="7673760" cy="112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219320" y="1523880"/>
            <a:ext cx="7673760" cy="47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0"/>
            <a:ext cx="7673760" cy="112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523880"/>
            <a:ext cx="7673760" cy="478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8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19320" y="0"/>
            <a:ext cx="7673760" cy="112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19320" y="1523880"/>
            <a:ext cx="3744720" cy="478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8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51600" y="1523880"/>
            <a:ext cx="3744720" cy="478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8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19320" y="0"/>
            <a:ext cx="7673760" cy="112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219320" y="0"/>
            <a:ext cx="7673760" cy="520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19320" y="0"/>
            <a:ext cx="7673760" cy="112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19320" y="1523880"/>
            <a:ext cx="3744720" cy="227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8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151600" y="1523880"/>
            <a:ext cx="3744720" cy="478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8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219320" y="4020840"/>
            <a:ext cx="3744720" cy="227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8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0"/>
            <a:ext cx="7673760" cy="112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1219320" y="1523880"/>
            <a:ext cx="7673760" cy="47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0"/>
            <a:ext cx="7673760" cy="112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523880"/>
            <a:ext cx="3744720" cy="478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8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51600" y="1523880"/>
            <a:ext cx="3744720" cy="227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8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151600" y="4020840"/>
            <a:ext cx="3744720" cy="227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8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19320" y="0"/>
            <a:ext cx="7673760" cy="112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19320" y="1523880"/>
            <a:ext cx="3744720" cy="227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8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151600" y="1523880"/>
            <a:ext cx="3744720" cy="227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8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219320" y="4020840"/>
            <a:ext cx="7673760" cy="227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8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19320" y="0"/>
            <a:ext cx="7673760" cy="112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19320" y="1523880"/>
            <a:ext cx="7673760" cy="227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8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219320" y="4020840"/>
            <a:ext cx="7673760" cy="227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8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19320" y="0"/>
            <a:ext cx="7673760" cy="112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19320" y="1523880"/>
            <a:ext cx="3744720" cy="227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8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151600" y="1523880"/>
            <a:ext cx="3744720" cy="227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8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219320" y="4020840"/>
            <a:ext cx="3744720" cy="227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8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151600" y="4020840"/>
            <a:ext cx="3744720" cy="227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8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19320" y="0"/>
            <a:ext cx="7673760" cy="112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19320" y="1523880"/>
            <a:ext cx="2470680" cy="227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8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813840" y="1523880"/>
            <a:ext cx="2470680" cy="227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8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408360" y="1523880"/>
            <a:ext cx="2470680" cy="227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8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219320" y="4020840"/>
            <a:ext cx="2470680" cy="227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8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813840" y="4020840"/>
            <a:ext cx="2470680" cy="227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8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408360" y="4020840"/>
            <a:ext cx="2470680" cy="227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8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19320" y="0"/>
            <a:ext cx="7673760" cy="112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219320" y="1523880"/>
            <a:ext cx="7673760" cy="47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0"/>
            <a:ext cx="7673760" cy="112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1523880"/>
            <a:ext cx="7673760" cy="478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8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0"/>
            <a:ext cx="7673760" cy="112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523880"/>
            <a:ext cx="3744720" cy="478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8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1600" y="1523880"/>
            <a:ext cx="3744720" cy="478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8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19320" y="0"/>
            <a:ext cx="7673760" cy="112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19320" y="0"/>
            <a:ext cx="7673760" cy="112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19320" y="1523880"/>
            <a:ext cx="7673760" cy="478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8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1219320" y="0"/>
            <a:ext cx="7673760" cy="520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19320" y="0"/>
            <a:ext cx="7673760" cy="112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19320" y="1523880"/>
            <a:ext cx="3744720" cy="227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8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51600" y="1523880"/>
            <a:ext cx="3744720" cy="478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8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219320" y="4020840"/>
            <a:ext cx="3744720" cy="227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8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19320" y="0"/>
            <a:ext cx="7673760" cy="112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523880"/>
            <a:ext cx="3744720" cy="478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8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51600" y="1523880"/>
            <a:ext cx="3744720" cy="227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8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151600" y="4020840"/>
            <a:ext cx="3744720" cy="227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8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19320" y="0"/>
            <a:ext cx="7673760" cy="112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219320" y="1523880"/>
            <a:ext cx="3744720" cy="227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8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151600" y="1523880"/>
            <a:ext cx="3744720" cy="227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8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219320" y="4020840"/>
            <a:ext cx="7673760" cy="227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8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219320" y="0"/>
            <a:ext cx="7673760" cy="112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219320" y="1523880"/>
            <a:ext cx="7673760" cy="227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8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1219320" y="4020840"/>
            <a:ext cx="7673760" cy="227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8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0"/>
            <a:ext cx="7673760" cy="112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523880"/>
            <a:ext cx="3744720" cy="227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8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151600" y="1523880"/>
            <a:ext cx="3744720" cy="227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8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1219320" y="4020840"/>
            <a:ext cx="3744720" cy="227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8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5151600" y="4020840"/>
            <a:ext cx="3744720" cy="227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8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219320" y="0"/>
            <a:ext cx="7673760" cy="112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219320" y="1523880"/>
            <a:ext cx="2470680" cy="227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8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813840" y="1523880"/>
            <a:ext cx="2470680" cy="227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8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408360" y="1523880"/>
            <a:ext cx="2470680" cy="227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8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1219320" y="4020840"/>
            <a:ext cx="2470680" cy="227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8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813840" y="4020840"/>
            <a:ext cx="2470680" cy="227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8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408360" y="4020840"/>
            <a:ext cx="2470680" cy="227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8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0"/>
            <a:ext cx="7673760" cy="112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523880"/>
            <a:ext cx="3744720" cy="478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8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51600" y="1523880"/>
            <a:ext cx="3744720" cy="478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8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0"/>
            <a:ext cx="7673760" cy="112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1219320" y="0"/>
            <a:ext cx="7673760" cy="520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19320" y="0"/>
            <a:ext cx="7673760" cy="112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19320" y="1523880"/>
            <a:ext cx="3744720" cy="227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8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51600" y="1523880"/>
            <a:ext cx="3744720" cy="478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8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219320" y="4020840"/>
            <a:ext cx="3744720" cy="227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8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19320" y="0"/>
            <a:ext cx="7673760" cy="112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19320" y="1523880"/>
            <a:ext cx="3744720" cy="478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8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151600" y="1523880"/>
            <a:ext cx="3744720" cy="227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8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151600" y="4020840"/>
            <a:ext cx="3744720" cy="227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8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19320" y="0"/>
            <a:ext cx="7673760" cy="112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219320" y="1523880"/>
            <a:ext cx="3744720" cy="227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8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151600" y="1523880"/>
            <a:ext cx="3744720" cy="227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8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219320" y="4020840"/>
            <a:ext cx="7673760" cy="227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8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66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61920" cy="1504800"/>
          </a:xfrm>
          <a:prstGeom prst="rect">
            <a:avLst/>
          </a:prstGeom>
          <a:ln w="0">
            <a:noFill/>
          </a:ln>
        </p:spPr>
      </p:pic>
      <p:grpSp>
        <p:nvGrpSpPr>
          <p:cNvPr id="1" name=""/>
          <p:cNvGrpSpPr/>
          <p:nvPr/>
        </p:nvGrpSpPr>
        <p:grpSpPr>
          <a:xfrm>
            <a:off x="7215480" y="49320"/>
            <a:ext cx="1723680" cy="565200"/>
            <a:chOff x="7215480" y="49320"/>
            <a:chExt cx="1723680" cy="565200"/>
          </a:xfrm>
        </p:grpSpPr>
        <p:sp>
          <p:nvSpPr>
            <p:cNvPr id="2" name=""/>
            <p:cNvSpPr/>
            <p:nvPr/>
          </p:nvSpPr>
          <p:spPr>
            <a:xfrm>
              <a:off x="7257960" y="49320"/>
              <a:ext cx="1681200" cy="565200"/>
            </a:xfrm>
            <a:prstGeom prst="roundRect">
              <a:avLst>
                <a:gd name="adj" fmla="val 27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7215480" y="49320"/>
              <a:ext cx="1709280" cy="564120"/>
              <a:chOff x="7215480" y="49320"/>
              <a:chExt cx="1709280" cy="564120"/>
            </a:xfrm>
          </p:grpSpPr>
          <p:sp>
            <p:nvSpPr>
              <p:cNvPr id="4" name=""/>
              <p:cNvSpPr/>
              <p:nvPr/>
            </p:nvSpPr>
            <p:spPr>
              <a:xfrm>
                <a:off x="7257960" y="49320"/>
                <a:ext cx="1666800" cy="550800"/>
              </a:xfrm>
              <a:prstGeom prst="roundRect">
                <a:avLst>
                  <a:gd name="adj" fmla="val 28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" name=""/>
              <p:cNvGrpSpPr/>
              <p:nvPr/>
            </p:nvGrpSpPr>
            <p:grpSpPr>
              <a:xfrm>
                <a:off x="7215480" y="49320"/>
                <a:ext cx="1699920" cy="564120"/>
                <a:chOff x="7215480" y="49320"/>
                <a:chExt cx="1699920" cy="564120"/>
              </a:xfrm>
            </p:grpSpPr>
            <p:sp>
              <p:nvSpPr>
                <p:cNvPr id="6" name=""/>
                <p:cNvSpPr/>
                <p:nvPr/>
              </p:nvSpPr>
              <p:spPr>
                <a:xfrm>
                  <a:off x="7257960" y="49320"/>
                  <a:ext cx="1657440" cy="538200"/>
                </a:xfrm>
                <a:prstGeom prst="roundRect">
                  <a:avLst>
                    <a:gd name="adj" fmla="val 292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4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" name=""/>
                <p:cNvGrpSpPr/>
                <p:nvPr/>
              </p:nvGrpSpPr>
              <p:grpSpPr>
                <a:xfrm>
                  <a:off x="7215480" y="49320"/>
                  <a:ext cx="1693080" cy="564120"/>
                  <a:chOff x="7215480" y="49320"/>
                  <a:chExt cx="1693080" cy="564120"/>
                </a:xfrm>
              </p:grpSpPr>
              <p:sp>
                <p:nvSpPr>
                  <p:cNvPr id="8" name=""/>
                  <p:cNvSpPr/>
                  <p:nvPr/>
                </p:nvSpPr>
                <p:spPr>
                  <a:xfrm>
                    <a:off x="7257960" y="49320"/>
                    <a:ext cx="1648080" cy="527040"/>
                  </a:xfrm>
                  <a:prstGeom prst="roundRect">
                    <a:avLst>
                      <a:gd name="adj" fmla="val 301"/>
                    </a:avLst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4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9" name=""/>
                  <p:cNvGrpSpPr/>
                  <p:nvPr/>
                </p:nvGrpSpPr>
                <p:grpSpPr>
                  <a:xfrm>
                    <a:off x="7215480" y="49320"/>
                    <a:ext cx="1693080" cy="564120"/>
                    <a:chOff x="7215480" y="49320"/>
                    <a:chExt cx="1693080" cy="564120"/>
                  </a:xfrm>
                </p:grpSpPr>
                <p:sp>
                  <p:nvSpPr>
                    <p:cNvPr id="10" name=""/>
                    <p:cNvSpPr/>
                    <p:nvPr/>
                  </p:nvSpPr>
                  <p:spPr>
                    <a:xfrm>
                      <a:off x="7257960" y="49320"/>
                      <a:ext cx="1636920" cy="517320"/>
                    </a:xfrm>
                    <a:prstGeom prst="roundRect">
                      <a:avLst>
                        <a:gd name="adj" fmla="val 306"/>
                      </a:avLst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11" name=""/>
                    <p:cNvGrpSpPr/>
                    <p:nvPr/>
                  </p:nvGrpSpPr>
                  <p:grpSpPr>
                    <a:xfrm>
                      <a:off x="7215480" y="49320"/>
                      <a:ext cx="1693080" cy="564120"/>
                      <a:chOff x="7215480" y="49320"/>
                      <a:chExt cx="1693080" cy="564120"/>
                    </a:xfrm>
                  </p:grpSpPr>
                  <p:sp>
                    <p:nvSpPr>
                      <p:cNvPr id="12" name=""/>
                      <p:cNvSpPr/>
                      <p:nvPr/>
                    </p:nvSpPr>
                    <p:spPr>
                      <a:xfrm>
                        <a:off x="7257960" y="49320"/>
                        <a:ext cx="1629000" cy="509400"/>
                      </a:xfrm>
                      <a:prstGeom prst="roundRect">
                        <a:avLst>
                          <a:gd name="adj" fmla="val 310"/>
                        </a:avLst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lnSpc>
                            <a:spcPct val="104000"/>
                          </a:lnSpc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13" name=""/>
                      <p:cNvGrpSpPr/>
                      <p:nvPr/>
                    </p:nvGrpSpPr>
                    <p:grpSpPr>
                      <a:xfrm>
                        <a:off x="7215480" y="49320"/>
                        <a:ext cx="1693080" cy="564120"/>
                        <a:chOff x="7215480" y="49320"/>
                        <a:chExt cx="1693080" cy="564120"/>
                      </a:xfrm>
                    </p:grpSpPr>
                    <p:sp>
                      <p:nvSpPr>
                        <p:cNvPr id="14" name=""/>
                        <p:cNvSpPr/>
                        <p:nvPr/>
                      </p:nvSpPr>
                      <p:spPr>
                        <a:xfrm>
                          <a:off x="7257960" y="49320"/>
                          <a:ext cx="1622520" cy="504720"/>
                        </a:xfrm>
                        <a:prstGeom prst="roundRect">
                          <a:avLst>
                            <a:gd name="adj" fmla="val 310"/>
                          </a:avLst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lnSpc>
                              <a:spcPct val="104000"/>
                            </a:lnSpc>
                            <a:tabLst>
                              <a:tab algn="l" pos="0"/>
                              <a:tab algn="l" pos="457200"/>
                              <a:tab algn="l" pos="914400"/>
                              <a:tab algn="l" pos="1371600"/>
                              <a:tab algn="l" pos="1828800"/>
                              <a:tab algn="l" pos="2286000"/>
                              <a:tab algn="l" pos="2743200"/>
                              <a:tab algn="l" pos="3200400"/>
                              <a:tab algn="l" pos="3657600"/>
                              <a:tab algn="l" pos="4114800"/>
                              <a:tab algn="l" pos="4572000"/>
                              <a:tab algn="l" pos="5029200"/>
                              <a:tab algn="l" pos="5486400"/>
                              <a:tab algn="l" pos="5943600"/>
                              <a:tab algn="l" pos="6400800"/>
                              <a:tab algn="l" pos="6858000"/>
                              <a:tab algn="l" pos="7315200"/>
                              <a:tab algn="l" pos="7772400"/>
                              <a:tab algn="l" pos="8229600"/>
                              <a:tab algn="l" pos="8686800"/>
                              <a:tab algn="l" pos="9144000"/>
                            </a:tabLst>
                          </a:pPr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grpSp>
                      <p:nvGrpSpPr>
                        <p:cNvPr id="15" name=""/>
                        <p:cNvGrpSpPr/>
                        <p:nvPr/>
                      </p:nvGrpSpPr>
                      <p:grpSpPr>
                        <a:xfrm>
                          <a:off x="7215480" y="49320"/>
                          <a:ext cx="1693080" cy="564120"/>
                          <a:chOff x="7215480" y="49320"/>
                          <a:chExt cx="1693080" cy="564120"/>
                        </a:xfrm>
                      </p:grpSpPr>
                      <p:sp>
                        <p:nvSpPr>
                          <p:cNvPr id="16" name=""/>
                          <p:cNvSpPr/>
                          <p:nvPr/>
                        </p:nvSpPr>
                        <p:spPr>
                          <a:xfrm>
                            <a:off x="7257960" y="49320"/>
                            <a:ext cx="1616040" cy="498240"/>
                          </a:xfrm>
                          <a:prstGeom prst="roundRect">
                            <a:avLst>
                              <a:gd name="adj" fmla="val 315"/>
                            </a:avLst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4000"/>
                              </a:lnSpc>
                              <a:tabLst>
                                <a:tab algn="l" pos="0"/>
                                <a:tab algn="l" pos="457200"/>
                                <a:tab algn="l" pos="914400"/>
                                <a:tab algn="l" pos="1371600"/>
                                <a:tab algn="l" pos="1828800"/>
                                <a:tab algn="l" pos="2286000"/>
                                <a:tab algn="l" pos="2743200"/>
                                <a:tab algn="l" pos="3200400"/>
                                <a:tab algn="l" pos="3657600"/>
                                <a:tab algn="l" pos="4114800"/>
                                <a:tab algn="l" pos="4572000"/>
                                <a:tab algn="l" pos="5029200"/>
                                <a:tab algn="l" pos="5486400"/>
                                <a:tab algn="l" pos="5943600"/>
                                <a:tab algn="l" pos="6400800"/>
                                <a:tab algn="l" pos="6858000"/>
                                <a:tab algn="l" pos="7315200"/>
                                <a:tab algn="l" pos="7772400"/>
                                <a:tab algn="l" pos="8229600"/>
                                <a:tab algn="l" pos="8686800"/>
                                <a:tab algn="l" pos="91440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grpSp>
                        <p:nvGrpSpPr>
                          <p:cNvPr id="17" name=""/>
                          <p:cNvGrpSpPr/>
                          <p:nvPr/>
                        </p:nvGrpSpPr>
                        <p:grpSpPr>
                          <a:xfrm>
                            <a:off x="7215480" y="49320"/>
                            <a:ext cx="1693080" cy="564120"/>
                            <a:chOff x="7215480" y="49320"/>
                            <a:chExt cx="1693080" cy="564120"/>
                          </a:xfrm>
                        </p:grpSpPr>
                        <p:sp>
                          <p:nvSpPr>
                            <p:cNvPr id="18" name=""/>
                            <p:cNvSpPr/>
                            <p:nvPr/>
                          </p:nvSpPr>
                          <p:spPr>
                            <a:xfrm>
                              <a:off x="7257960" y="49320"/>
                              <a:ext cx="1611360" cy="493560"/>
                            </a:xfrm>
                            <a:prstGeom prst="roundRect">
                              <a:avLst>
                                <a:gd name="adj" fmla="val 319"/>
                              </a:avLst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noAutofit/>
                            </a:bodyPr>
                            <a:p>
                              <a:pPr>
                                <a:lnSpc>
                                  <a:spcPct val="104000"/>
                                </a:lnSpc>
                                <a:tabLst>
                                  <a:tab algn="l" pos="0"/>
                                  <a:tab algn="l" pos="457200"/>
                                  <a:tab algn="l" pos="914400"/>
                                  <a:tab algn="l" pos="1371600"/>
                                  <a:tab algn="l" pos="1828800"/>
                                  <a:tab algn="l" pos="2286000"/>
                                  <a:tab algn="l" pos="2743200"/>
                                  <a:tab algn="l" pos="3200400"/>
                                  <a:tab algn="l" pos="3657600"/>
                                  <a:tab algn="l" pos="4114800"/>
                                  <a:tab algn="l" pos="4572000"/>
                                  <a:tab algn="l" pos="5029200"/>
                                  <a:tab algn="l" pos="5486400"/>
                                  <a:tab algn="l" pos="5943600"/>
                                  <a:tab algn="l" pos="6400800"/>
                                  <a:tab algn="l" pos="6858000"/>
                                  <a:tab algn="l" pos="7315200"/>
                                  <a:tab algn="l" pos="7772400"/>
                                  <a:tab algn="l" pos="8229600"/>
                                  <a:tab algn="l" pos="8686800"/>
                                  <a:tab algn="l" pos="91440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grpSp>
                          <p:nvGrpSpPr>
                            <p:cNvPr id="19" name=""/>
                            <p:cNvGrpSpPr/>
                            <p:nvPr/>
                          </p:nvGrpSpPr>
                          <p:grpSpPr>
                            <a:xfrm>
                              <a:off x="7215480" y="49320"/>
                              <a:ext cx="1693080" cy="564120"/>
                              <a:chOff x="7215480" y="49320"/>
                              <a:chExt cx="1693080" cy="564120"/>
                            </a:xfrm>
                          </p:grpSpPr>
                          <p:sp>
                            <p:nvSpPr>
                              <p:cNvPr id="20" name=""/>
                              <p:cNvSpPr/>
                              <p:nvPr/>
                            </p:nvSpPr>
                            <p:spPr>
                              <a:xfrm>
                                <a:off x="7257960" y="49320"/>
                                <a:ext cx="1609920" cy="492120"/>
                              </a:xfrm>
                              <a:prstGeom prst="roundRect">
                                <a:avLst>
                                  <a:gd name="adj" fmla="val 319"/>
                                </a:avLst>
                              </a:prstGeom>
                              <a:noFill/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46800" bIns="46800" anchor="ctr">
                                <a:noAutofit/>
                              </a:bodyPr>
                              <a:p>
                                <a:pPr>
                                  <a:lnSpc>
                                    <a:spcPct val="104000"/>
                                  </a:lnSpc>
                                  <a:tabLst>
                                    <a:tab algn="l" pos="0"/>
                                    <a:tab algn="l" pos="457200"/>
                                    <a:tab algn="l" pos="914400"/>
                                    <a:tab algn="l" pos="1371600"/>
                                    <a:tab algn="l" pos="1828800"/>
                                    <a:tab algn="l" pos="2286000"/>
                                    <a:tab algn="l" pos="2743200"/>
                                    <a:tab algn="l" pos="3200400"/>
                                    <a:tab algn="l" pos="3657600"/>
                                    <a:tab algn="l" pos="4114800"/>
                                    <a:tab algn="l" pos="4572000"/>
                                    <a:tab algn="l" pos="5029200"/>
                                    <a:tab algn="l" pos="5486400"/>
                                    <a:tab algn="l" pos="5943600"/>
                                    <a:tab algn="l" pos="6400800"/>
                                    <a:tab algn="l" pos="6858000"/>
                                    <a:tab algn="l" pos="7315200"/>
                                    <a:tab algn="l" pos="7772400"/>
                                    <a:tab algn="l" pos="8229600"/>
                                    <a:tab algn="l" pos="8686800"/>
                                    <a:tab algn="l" pos="91440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grpSp>
                            <p:nvGrpSpPr>
                              <p:cNvPr id="21" name=""/>
                              <p:cNvGrpSpPr/>
                              <p:nvPr/>
                            </p:nvGrpSpPr>
                            <p:grpSpPr>
                              <a:xfrm>
                                <a:off x="7215480" y="49320"/>
                                <a:ext cx="1693080" cy="564120"/>
                                <a:chOff x="7215480" y="49320"/>
                                <a:chExt cx="1693080" cy="564120"/>
                              </a:xfrm>
                            </p:grpSpPr>
                            <p:sp>
                              <p:nvSpPr>
                                <p:cNvPr id="22" name=""/>
                                <p:cNvSpPr/>
                                <p:nvPr/>
                              </p:nvSpPr>
                              <p:spPr>
                                <a:xfrm>
                                  <a:off x="7257960" y="49320"/>
                                  <a:ext cx="1609920" cy="492120"/>
                                </a:xfrm>
                                <a:prstGeom prst="roundRect">
                                  <a:avLst>
                                    <a:gd name="adj" fmla="val 319"/>
                                  </a:avLst>
                                </a:prstGeom>
                                <a:noFill/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wrap="none" lIns="90000" rIns="90000" tIns="46800" bIns="46800" anchor="ctr">
                                  <a:noAutofit/>
                                </a:bodyPr>
                                <a:p>
                                  <a:pPr>
                                    <a:lnSpc>
                                      <a:spcPct val="104000"/>
                                    </a:lnSpc>
                                    <a:tabLst>
                                      <a:tab algn="l" pos="0"/>
                                      <a:tab algn="l" pos="457200"/>
                                      <a:tab algn="l" pos="914400"/>
                                      <a:tab algn="l" pos="1371600"/>
                                      <a:tab algn="l" pos="1828800"/>
                                      <a:tab algn="l" pos="2286000"/>
                                      <a:tab algn="l" pos="2743200"/>
                                      <a:tab algn="l" pos="3200400"/>
                                      <a:tab algn="l" pos="3657600"/>
                                      <a:tab algn="l" pos="4114800"/>
                                      <a:tab algn="l" pos="4572000"/>
                                      <a:tab algn="l" pos="5029200"/>
                                      <a:tab algn="l" pos="5486400"/>
                                      <a:tab algn="l" pos="5943600"/>
                                      <a:tab algn="l" pos="6400800"/>
                                      <a:tab algn="l" pos="6858000"/>
                                      <a:tab algn="l" pos="7315200"/>
                                      <a:tab algn="l" pos="7772400"/>
                                      <a:tab algn="l" pos="8229600"/>
                                      <a:tab algn="l" pos="8686800"/>
                                      <a:tab algn="l" pos="9144000"/>
                                    </a:tabLst>
                                  </a:pPr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3" name=""/>
                                <p:cNvSpPr/>
                                <p:nvPr/>
                              </p:nvSpPr>
                              <p:spPr>
                                <a:xfrm>
                                  <a:off x="7215480" y="49320"/>
                                  <a:ext cx="1693080" cy="564120"/>
                                </a:xfrm>
                                <a:prstGeom prst="roundRect">
                                  <a:avLst>
                                    <a:gd name="adj" fmla="val 319"/>
                                  </a:avLst>
                                </a:prstGeom>
                                <a:noFill/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wrap="none" lIns="90000" rIns="90000" tIns="46800" bIns="46800" anchor="t">
                                  <a:spAutoFit/>
                                </a:bodyPr>
                                <a:p>
                                  <a:pPr algn="ctr">
                                    <a:lnSpc>
                                      <a:spcPct val="93000"/>
                                    </a:lnSpc>
                                    <a:tabLst>
                                      <a:tab algn="l" pos="0"/>
                                      <a:tab algn="l" pos="457200"/>
                                      <a:tab algn="l" pos="914400"/>
                                      <a:tab algn="l" pos="1371600"/>
                                      <a:tab algn="l" pos="1828800"/>
                                      <a:tab algn="l" pos="2286000"/>
                                      <a:tab algn="l" pos="2743200"/>
                                      <a:tab algn="l" pos="3200400"/>
                                      <a:tab algn="l" pos="3657600"/>
                                      <a:tab algn="l" pos="4114800"/>
                                      <a:tab algn="l" pos="4572000"/>
                                      <a:tab algn="l" pos="5029200"/>
                                      <a:tab algn="l" pos="5486400"/>
                                      <a:tab algn="l" pos="5943600"/>
                                      <a:tab algn="l" pos="6400800"/>
                                      <a:tab algn="l" pos="6858000"/>
                                      <a:tab algn="l" pos="7315200"/>
                                      <a:tab algn="l" pos="7772400"/>
                                      <a:tab algn="l" pos="8229600"/>
                                      <a:tab algn="l" pos="8686800"/>
                                      <a:tab algn="l" pos="9144000"/>
                                      <a:tab algn="l" pos="9601200"/>
                                      <a:tab algn="l" pos="10058400"/>
                                      <a:tab algn="l" pos="10515600"/>
                                    </a:tabLst>
                                  </a:pPr>
                                  <a:r>
                                    <a:rPr b="0" i="1" lang="en-GB" sz="1600" spc="-1" strike="noStrike">
                                      <a:solidFill>
                                        <a:srgbClr val="00ffff"/>
                                      </a:solidFill>
                                      <a:latin typeface="Arial"/>
                                    </a:rPr>
                                    <a:t>SRI International</a:t>
                                  </a:r>
                                  <a:endParaRPr b="0" lang="en-US" sz="16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  <a:p>
                                  <a:pPr algn="ctr">
                                    <a:lnSpc>
                                      <a:spcPct val="100000"/>
                                    </a:lnSpc>
                                    <a:tabLst>
                                      <a:tab algn="l" pos="0"/>
                                      <a:tab algn="l" pos="457200"/>
                                      <a:tab algn="l" pos="914400"/>
                                      <a:tab algn="l" pos="1371600"/>
                                      <a:tab algn="l" pos="1828800"/>
                                      <a:tab algn="l" pos="2286000"/>
                                      <a:tab algn="l" pos="2743200"/>
                                      <a:tab algn="l" pos="3200400"/>
                                      <a:tab algn="l" pos="3657600"/>
                                      <a:tab algn="l" pos="4114800"/>
                                      <a:tab algn="l" pos="4572000"/>
                                      <a:tab algn="l" pos="5029200"/>
                                      <a:tab algn="l" pos="5486400"/>
                                      <a:tab algn="l" pos="5943600"/>
                                      <a:tab algn="l" pos="6400800"/>
                                      <a:tab algn="l" pos="6858000"/>
                                      <a:tab algn="l" pos="7315200"/>
                                      <a:tab algn="l" pos="7772400"/>
                                      <a:tab algn="l" pos="8229600"/>
                                      <a:tab algn="l" pos="8686800"/>
                                      <a:tab algn="l" pos="9144000"/>
                                      <a:tab algn="l" pos="9601200"/>
                                      <a:tab algn="l" pos="10058400"/>
                                      <a:tab algn="l" pos="10515600"/>
                                    </a:tabLst>
                                  </a:pPr>
                                  <a:r>
                                    <a:rPr b="0" i="1" lang="en-GB" sz="1600" spc="-1" strike="noStrike">
                                      <a:solidFill>
                                        <a:srgbClr val="00ffff"/>
                                      </a:solidFill>
                                      <a:latin typeface="Arial"/>
                                    </a:rPr>
                                    <a:t>Bioinformatics</a:t>
                                  </a:r>
                                  <a:endParaRPr b="0" lang="en-US" sz="16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</p:grpSp>
                      </p:grpSp>
                    </p:grpSp>
                  </p:grpSp>
                </p:grpSp>
              </p:grpSp>
            </p:grpSp>
          </p:grpSp>
        </p:grpSp>
      </p:grpSp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19320" y="0"/>
            <a:ext cx="7673760" cy="112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Stone Serif"/>
              </a:rPr>
              <a:t>Click to edit the title text format</a:t>
            </a: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body"/>
          </p:nvPr>
        </p:nvSpPr>
        <p:spPr>
          <a:xfrm>
            <a:off x="1219320" y="1523880"/>
            <a:ext cx="7673760" cy="478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8600" indent="-228600">
              <a:lnSpc>
                <a:spcPct val="108000"/>
              </a:lnSpc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685800" indent="-228600">
              <a:lnSpc>
                <a:spcPct val="108000"/>
              </a:lnSpc>
              <a:spcBef>
                <a:spcPts val="601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2" marL="1012680" indent="-228600">
              <a:lnSpc>
                <a:spcPct val="108000"/>
              </a:lnSpc>
              <a:spcBef>
                <a:spcPts val="601"/>
              </a:spcBef>
              <a:buClr>
                <a:srgbClr val="ffcc66"/>
              </a:buClr>
              <a:buSzPct val="50000"/>
              <a:buFont typeface="Monotype Sort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3" marL="1371600" indent="-228600">
              <a:lnSpc>
                <a:spcPct val="108000"/>
              </a:lnSpc>
              <a:spcBef>
                <a:spcPts val="601"/>
              </a:spcBef>
              <a:buClr>
                <a:srgbClr val="ffcc66"/>
              </a:buClr>
              <a:buFont typeface="Arial Narrow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4" marL="1698480" indent="-228600">
              <a:lnSpc>
                <a:spcPct val="108000"/>
              </a:lnSpc>
              <a:spcBef>
                <a:spcPts val="601"/>
              </a:spcBef>
              <a:buClr>
                <a:srgbClr val="ffcc66"/>
              </a:buClr>
              <a:buFont typeface="Arial Narrow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5" marL="1698480" indent="-228600">
              <a:lnSpc>
                <a:spcPct val="108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6" marL="1698480" indent="-228600">
              <a:lnSpc>
                <a:spcPct val="108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66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61920" cy="15048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47920" y="1447560"/>
            <a:ext cx="6378480" cy="1120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Stone Serif"/>
              </a:rPr>
              <a:t>Click to edit the title text format</a:t>
            </a: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71400" y="1906560"/>
            <a:ext cx="7786800" cy="429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108000"/>
              </a:lnSpc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685800" indent="-228600">
              <a:lnSpc>
                <a:spcPct val="108000"/>
              </a:lnSpc>
              <a:spcBef>
                <a:spcPts val="601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2" marL="1012680" indent="-228600">
              <a:lnSpc>
                <a:spcPct val="108000"/>
              </a:lnSpc>
              <a:spcBef>
                <a:spcPts val="601"/>
              </a:spcBef>
              <a:buClr>
                <a:srgbClr val="ffcc66"/>
              </a:buClr>
              <a:buSzPct val="50000"/>
              <a:buFont typeface="Monotype Sort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3" marL="1371600" indent="-228600">
              <a:lnSpc>
                <a:spcPct val="108000"/>
              </a:lnSpc>
              <a:spcBef>
                <a:spcPts val="601"/>
              </a:spcBef>
              <a:buClr>
                <a:srgbClr val="ffcc66"/>
              </a:buClr>
              <a:buFont typeface="Arial Narrow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4" marL="1698480" indent="-228600">
              <a:lnSpc>
                <a:spcPct val="108000"/>
              </a:lnSpc>
              <a:spcBef>
                <a:spcPts val="601"/>
              </a:spcBef>
              <a:buClr>
                <a:srgbClr val="ffcc66"/>
              </a:buClr>
              <a:buFont typeface="Arial Narrow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5" marL="1698480" indent="-228600">
              <a:lnSpc>
                <a:spcPct val="108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6" marL="1698480" indent="-228600">
              <a:lnSpc>
                <a:spcPct val="108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biocyc.org/desktop-vs-web-mode.shtml" TargetMode="External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66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47920" y="411120"/>
            <a:ext cx="6400800" cy="199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WWW Server Operation</a:t>
            </a:r>
            <a:endParaRPr b="1" i="1" lang="en-US" sz="4400" spc="-1" strike="noStrike">
              <a:solidFill>
                <a:srgbClr val="ffcc66"/>
              </a:solidFill>
              <a:latin typeface="Stone Serif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1219320" y="2514240"/>
            <a:ext cx="6400800" cy="417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lvl="1" indent="0" algn="ctr">
              <a:lnSpc>
                <a:spcPct val="93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800" spc="-1" strike="noStrike">
                <a:solidFill>
                  <a:srgbClr val="ffcc66"/>
                </a:solidFill>
                <a:latin typeface="Arial"/>
                <a:ea typeface="msgothic"/>
              </a:rPr>
              <a:t>Markus Krummenacker</a:t>
            </a:r>
            <a:endParaRPr b="1" lang="en-US" sz="2800" spc="-1" strike="noStrike">
              <a:solidFill>
                <a:srgbClr val="ffcc66"/>
              </a:solidFill>
              <a:latin typeface="Arial"/>
            </a:endParaRPr>
          </a:p>
          <a:p>
            <a:pPr lvl="1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400" spc="-1" strike="noStrike">
                <a:solidFill>
                  <a:srgbClr val="ffcc66"/>
                </a:solidFill>
                <a:latin typeface="Arial"/>
                <a:ea typeface="msgothic"/>
              </a:rPr>
              <a:t>Bioinformatics Research Group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400" spc="-1" strike="noStrike">
                <a:solidFill>
                  <a:srgbClr val="ffcc66"/>
                </a:solidFill>
                <a:latin typeface="Arial"/>
                <a:ea typeface="msgothic"/>
              </a:rPr>
              <a:t>SRI International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400" spc="-1" strike="noStrike">
                <a:solidFill>
                  <a:srgbClr val="ffcc66"/>
                </a:solidFill>
                <a:latin typeface="Arial"/>
                <a:ea typeface="msgothic"/>
              </a:rPr>
              <a:t>kr@ai.sri.com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66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18960" y="0"/>
            <a:ext cx="7677000" cy="11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3200" spc="-1" strike="noStrike">
                <a:solidFill>
                  <a:srgbClr val="ffcc66"/>
                </a:solidFill>
                <a:latin typeface="Stone Serif"/>
              </a:rPr>
              <a:t>WWW vs. Desktop</a:t>
            </a: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18960" y="1549080"/>
            <a:ext cx="7677000" cy="506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104000"/>
              </a:lnSpc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biocyc.org/desktop-vs-web-mode.shtml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28600" indent="-228600">
              <a:lnSpc>
                <a:spcPct val="104000"/>
              </a:lnSpc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cc66"/>
                </a:solidFill>
                <a:latin typeface="Arial"/>
              </a:rPr>
              <a:t>WWW: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685800" indent="-228600">
              <a:lnSpc>
                <a:spcPct val="97000"/>
              </a:lnSpc>
              <a:spcBef>
                <a:spcPts val="601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 Narrow"/>
              </a:rPr>
              <a:t>Comparative Genomics Tools (HTML Tables)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685800" indent="-228600">
              <a:lnSpc>
                <a:spcPct val="97000"/>
              </a:lnSpc>
              <a:spcBef>
                <a:spcPts val="601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 Narrow"/>
              </a:rPr>
              <a:t>Advanced Query Tool, using BioVelo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685800" indent="-228600">
              <a:lnSpc>
                <a:spcPct val="97000"/>
              </a:lnSpc>
              <a:spcBef>
                <a:spcPts val="601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 Narrow"/>
              </a:rPr>
              <a:t>BLAST Searching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228600" indent="-228600">
              <a:lnSpc>
                <a:spcPct val="104000"/>
              </a:lnSpc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cc66"/>
                </a:solidFill>
                <a:latin typeface="Arial"/>
              </a:rPr>
              <a:t>Desktop: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685800" indent="-228600">
              <a:lnSpc>
                <a:spcPct val="97000"/>
              </a:lnSpc>
              <a:spcBef>
                <a:spcPts val="601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 Narrow"/>
              </a:rPr>
              <a:t>Pathologic Prediction of new PGDBs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685800" indent="-228600">
              <a:lnSpc>
                <a:spcPct val="97000"/>
              </a:lnSpc>
              <a:spcBef>
                <a:spcPts val="601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 Narrow"/>
              </a:rPr>
              <a:t>Pathway Hole Filler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685800" indent="-228600">
              <a:lnSpc>
                <a:spcPct val="97000"/>
              </a:lnSpc>
              <a:spcBef>
                <a:spcPts val="601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 Narrow"/>
              </a:rPr>
              <a:t>All Editing Tools for Curation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685800" indent="-228600">
              <a:lnSpc>
                <a:spcPct val="97000"/>
              </a:lnSpc>
              <a:spcBef>
                <a:spcPts val="601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 Narrow"/>
              </a:rPr>
              <a:t>Many Overview Highlighting Options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4" marL="169848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4" marL="169848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66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66760" y="177480"/>
            <a:ext cx="77407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3200" spc="-1" strike="noStrike">
                <a:solidFill>
                  <a:srgbClr val="ffcc66"/>
                </a:solidFill>
                <a:latin typeface="Stone Serif"/>
              </a:rPr>
              <a:t>Starting WWW Server: Basics</a:t>
            </a: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43000" y="1294920"/>
            <a:ext cx="7772400" cy="5061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8600" indent="-228600">
              <a:lnSpc>
                <a:spcPct val="93000"/>
              </a:lnSpc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ffcc66"/>
                </a:solidFill>
                <a:latin typeface="Arial"/>
              </a:rPr>
              <a:t>Configured by ptools-init.dat parameters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marL="228600" indent="-228600">
              <a:lnSpc>
                <a:spcPct val="93000"/>
              </a:lnSpc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ffcc66"/>
                </a:solidFill>
                <a:latin typeface="Arial"/>
              </a:rPr>
              <a:t>Required: (the values are used for generating URLs)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 Narrow"/>
              </a:rPr>
              <a:t>WWW-Server-Hostname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685800" indent="-22860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 Narrow"/>
              </a:rPr>
              <a:t>WWW-Server-Port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685800" indent="-22860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 Narrow"/>
              </a:rPr>
              <a:t>Description: UG Section 2.1.1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228600" indent="-228600">
              <a:lnSpc>
                <a:spcPct val="93000"/>
              </a:lnSpc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ffcc66"/>
                </a:solidFill>
                <a:latin typeface="Arial"/>
              </a:rPr>
              <a:t>Organism Selection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marL="228600" indent="0">
              <a:lnSpc>
                <a:spcPct val="93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marL="228600" indent="-228600">
              <a:lnSpc>
                <a:spcPct val="93000"/>
              </a:lnSpc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ffcc66"/>
                </a:solidFill>
                <a:latin typeface="Arial"/>
              </a:rPr>
              <a:t>Start WWW Server:    pathway-tools -www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66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66760" y="177480"/>
            <a:ext cx="77407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3200" spc="-1" strike="noStrike">
                <a:solidFill>
                  <a:srgbClr val="ffcc66"/>
                </a:solidFill>
                <a:latin typeface="Stone Serif"/>
              </a:rPr>
              <a:t>WWW Server: Advanced</a:t>
            </a: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43000" y="1294920"/>
            <a:ext cx="7772400" cy="5061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8600" indent="-228600">
              <a:lnSpc>
                <a:spcPct val="93000"/>
              </a:lnSpc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ffcc66"/>
                </a:solidFill>
                <a:latin typeface="Arial"/>
              </a:rPr>
              <a:t>Several more ptools-init.dat parameters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marL="228600" indent="-228600">
              <a:lnSpc>
                <a:spcPct val="93000"/>
              </a:lnSpc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ffcc66"/>
                </a:solidFill>
                <a:latin typeface="Arial"/>
              </a:rPr>
              <a:t>Some exotic parameters supplied as commandline args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marL="228600" indent="-228600">
              <a:lnSpc>
                <a:spcPct val="93000"/>
              </a:lnSpc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ffcc66"/>
                </a:solidFill>
                <a:latin typeface="Arial"/>
              </a:rPr>
              <a:t>Commandline args override ptools-init.dat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marL="228600" indent="-228600">
              <a:lnSpc>
                <a:spcPct val="93000"/>
              </a:lnSpc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ffcc66"/>
                </a:solidFill>
                <a:latin typeface="Arial"/>
              </a:rPr>
              <a:t>Description: UG Section 2.3.1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marL="228600" indent="-228600">
              <a:lnSpc>
                <a:spcPct val="93000"/>
              </a:lnSpc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ffcc66"/>
                </a:solidFill>
                <a:latin typeface="Arial"/>
              </a:rPr>
              <a:t>Displaying target of DBLINK for a gene page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 Narrow"/>
              </a:rPr>
              <a:t>-gene-link-db DBFRAMEID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66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66760" y="177480"/>
            <a:ext cx="77407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3200" spc="-1" strike="noStrike">
                <a:solidFill>
                  <a:srgbClr val="ffcc66"/>
                </a:solidFill>
                <a:latin typeface="Stone Serif"/>
              </a:rPr>
              <a:t>Bulk Loading of DB-Links</a:t>
            </a: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43000" y="1294920"/>
            <a:ext cx="7772400" cy="5061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8600" indent="-228600">
              <a:lnSpc>
                <a:spcPct val="93000"/>
              </a:lnSpc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ffcc66"/>
                </a:solidFill>
                <a:latin typeface="Arial"/>
              </a:rPr>
              <a:t>Database Definition File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marL="228600" indent="-228600">
              <a:lnSpc>
                <a:spcPct val="93000"/>
              </a:lnSpc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ffcc66"/>
                </a:solidFill>
                <a:latin typeface="Arial"/>
              </a:rPr>
              <a:t>Link Definition File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marL="228600" indent="-228600">
              <a:lnSpc>
                <a:spcPct val="93000"/>
              </a:lnSpc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ffcc66"/>
                </a:solidFill>
                <a:latin typeface="Arial"/>
              </a:rPr>
              <a:t>Format Description: UG section 7.5.8.5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marL="228600" indent="-228600">
              <a:lnSpc>
                <a:spcPct val="93000"/>
              </a:lnSpc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ffcc66"/>
                </a:solidFill>
                <a:latin typeface="Arial"/>
              </a:rPr>
              <a:t>Load with commandline args -dbdef and -linkdef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66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66760" y="177480"/>
            <a:ext cx="77407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3200" spc="-1" strike="noStrike">
                <a:solidFill>
                  <a:srgbClr val="ffcc66"/>
                </a:solidFill>
                <a:latin typeface="Stone Serif"/>
              </a:rPr>
              <a:t>Unsupervised WWW Server Operation</a:t>
            </a: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43000" y="1294920"/>
            <a:ext cx="7772400" cy="5061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8600" indent="-228600">
              <a:lnSpc>
                <a:spcPct val="93000"/>
              </a:lnSpc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ffcc66"/>
                </a:solidFill>
                <a:latin typeface="Arial"/>
              </a:rPr>
              <a:t>Pathway Tools needs some X Server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marL="228600" indent="-228600">
              <a:lnSpc>
                <a:spcPct val="93000"/>
              </a:lnSpc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ffcc66"/>
                </a:solidFill>
                <a:latin typeface="Arial"/>
              </a:rPr>
              <a:t>Xvfb</a:t>
            </a:r>
            <a:r>
              <a:rPr b="1" lang="en-GB" sz="2000" spc="-1" strike="noStrike">
                <a:solidFill>
                  <a:srgbClr val="ffcc66"/>
                </a:solidFill>
                <a:latin typeface="Arial"/>
              </a:rPr>
              <a:t> is a display-less X Server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marL="228600" indent="-228600">
              <a:lnSpc>
                <a:spcPct val="93000"/>
              </a:lnSpc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ffcc66"/>
                </a:solidFill>
                <a:latin typeface="Arial"/>
              </a:rPr>
              <a:t>Use </a:t>
            </a:r>
            <a:r>
              <a:rPr b="0" lang="en-GB" sz="2000" spc="-1" strike="noStrike">
                <a:solidFill>
                  <a:srgbClr val="ffcc66"/>
                </a:solidFill>
                <a:latin typeface="Arial"/>
              </a:rPr>
              <a:t>screen</a:t>
            </a:r>
            <a:r>
              <a:rPr b="1" lang="en-GB" sz="2000" spc="-1" strike="noStrike">
                <a:solidFill>
                  <a:srgbClr val="ffcc66"/>
                </a:solidFill>
                <a:latin typeface="Arial"/>
              </a:rPr>
              <a:t> for starting pathway-tools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marL="228600" indent="-228600">
              <a:lnSpc>
                <a:spcPct val="93000"/>
              </a:lnSpc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ffcc66"/>
                </a:solidFill>
                <a:latin typeface="Arial"/>
              </a:rPr>
              <a:t>Description: </a:t>
            </a:r>
            <a:r>
              <a:rPr b="1" lang="en-GB" sz="1500" spc="-1" strike="noStrike">
                <a:solidFill>
                  <a:srgbClr val="ffcc66"/>
                </a:solidFill>
                <a:latin typeface="Arial"/>
              </a:rPr>
              <a:t>http://bioinformatics.ai.sri.com/ptools/web-logout.html</a:t>
            </a:r>
            <a:endParaRPr b="1" lang="en-US" sz="15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Writing Programs that Analyze Pathway/Genome Databases</dc:title>
</cp:coreProperties>
</file>